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3612-16B3-4780-9C1F-C95FCB30D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910A-1466-46C2-8325-1BE47ACB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E1D2-E72F-464F-B79D-058C74F1D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70DD-81E1-48DD-8A60-4E6BA3DE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47F6-191B-402D-9354-75E7075C8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B8F2-3697-4C72-8B91-E7CC82B1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F89F-8F26-481A-9C8D-A5BFAEF6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D550-2CB7-4514-94C0-FE063FCC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AD74-3516-401B-A101-EA8C7ACA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C719-1162-4885-920D-86F876F0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323B-4476-4CEE-9646-3A58AF00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6260-3490-431B-8BD9-685AF3A7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4673-CEC3-4F8F-982C-55ED6DF3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A907-D888-4AC1-BA4B-18D62D0B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223A-D971-4705-9A73-87B378BC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1A2F-AAB3-4F45-ADFB-6167FEA9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04F8-838F-4A0C-AF1C-226FBDFCE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E774-03BB-4387-8F74-0977DB2F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EA7E-6F5E-459E-9B26-E77DEF3F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033D-F006-489D-BEDF-8FEC0DEF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B69B-7C5B-4305-95B4-1FA40920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0DA2-E3FC-4F17-A175-DCC5A542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B1C3-2C1D-4477-9FCD-56F2CF2D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88FE-4BF4-4A85-9B70-53EFCBEA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D217-7928-44F9-860E-AD46D2FD2C7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3A3B-B799-43AC-B38E-53D9B4634A94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Duodenum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Posterio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ft psoas major, left gonadal and left renal vess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Medial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d of pancreas and aor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Lateral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t Kidn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971640" y="2852640"/>
            <a:ext cx="7200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rterial supply of the duodenu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Supra-duodenal artery: from the hepatic artery proper (coeliac trunk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Superior pancreatico-duodenal artery: from gastro-duodenal (coeliac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Inferior pancreatico-duodenal artery: from superior mesenteric arte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19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741708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Picture 13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8137440" cy="49226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-838080" algn="ctr">
              <a:buClr>
                <a:srgbClr val="ff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ELIAC TRUN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Orig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ont of abdominal aorta ,upper border of L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Cour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hort trunk passes horizontally between two crura of diaphrag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6" descr="Gray532"/>
          <p:cNvPicPr/>
          <p:nvPr/>
        </p:nvPicPr>
        <p:blipFill>
          <a:blip r:embed="rId1"/>
          <a:stretch/>
        </p:blipFill>
        <p:spPr>
          <a:xfrm>
            <a:off x="4648320" y="1784520"/>
            <a:ext cx="4038480" cy="415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8920" y="259920"/>
            <a:ext cx="3313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Regions supplied by i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t supplies the foreg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Branch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in branches a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66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ft gastric art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66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patic art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66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plenic art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4" descr="AB012"/>
          <p:cNvPicPr/>
          <p:nvPr/>
        </p:nvPicPr>
        <p:blipFill>
          <a:blip r:embed="rId1"/>
          <a:stretch/>
        </p:blipFill>
        <p:spPr>
          <a:xfrm>
            <a:off x="3635280" y="333360"/>
            <a:ext cx="518472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76212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ranches of coeliac trun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330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SzPct val="8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Left gastric arter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Cour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pward, to left till diaphragm ,curves down along lesser curvature ,between layers of lesser omentum ,then anastomoses with Rt gastric arte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4" descr="celiac-trunk-its_~GD110003"/>
          <p:cNvPicPr/>
          <p:nvPr/>
        </p:nvPicPr>
        <p:blipFill>
          <a:blip r:embed="rId1"/>
          <a:stretch/>
        </p:blipFill>
        <p:spPr>
          <a:xfrm>
            <a:off x="4788000" y="2205000"/>
            <a:ext cx="4066920" cy="42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3097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99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Branch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99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esophageal branch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99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astric branch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4" descr="celiactrunk"/>
          <p:cNvPicPr/>
          <p:nvPr/>
        </p:nvPicPr>
        <p:blipFill>
          <a:blip r:embed="rId1"/>
          <a:stretch/>
        </p:blipFill>
        <p:spPr>
          <a:xfrm>
            <a:off x="3348000" y="1413000"/>
            <a:ext cx="534024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patic arte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4788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27120" indent="-627120"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Branch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27120" indent="-627120">
              <a:spcBef>
                <a:spcPts val="700"/>
              </a:spcBef>
              <a:buClr>
                <a:srgbClr val="ff66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ight gastric arte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7120" indent="-627120">
              <a:spcBef>
                <a:spcPts val="700"/>
              </a:spcBef>
              <a:buClr>
                <a:srgbClr val="ff66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pra-duodenal arter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7120" indent="-627120">
              <a:spcBef>
                <a:spcPts val="700"/>
              </a:spcBef>
              <a:buClr>
                <a:srgbClr val="ff66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astroduodenal arte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3160" indent="-548640">
              <a:spcBef>
                <a:spcPts val="601"/>
              </a:spcBef>
              <a:buClr>
                <a:srgbClr val="ffcc00"/>
              </a:buClr>
              <a:buSzPct val="75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Right gastroepiploic arte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3160" indent="-548640">
              <a:spcBef>
                <a:spcPts val="601"/>
              </a:spcBef>
              <a:buClr>
                <a:srgbClr val="ffcc00"/>
              </a:buClr>
              <a:buSzPct val="75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Superior pancreaticoduodenal arte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27120" indent="-627120">
              <a:spcBef>
                <a:spcPts val="700"/>
              </a:spcBef>
              <a:buClr>
                <a:srgbClr val="ff66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ight hepatic artery (cystic a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7120" indent="-627120">
              <a:spcBef>
                <a:spcPts val="700"/>
              </a:spcBef>
              <a:buClr>
                <a:srgbClr val="ff66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ft hepatic arte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7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4" descr="celiactrunk"/>
          <p:cNvPicPr/>
          <p:nvPr/>
        </p:nvPicPr>
        <p:blipFill>
          <a:blip r:embed="rId1"/>
          <a:stretch/>
        </p:blipFill>
        <p:spPr>
          <a:xfrm>
            <a:off x="4643280" y="1700280"/>
            <a:ext cx="450072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35880" cy="90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99ff99"/>
                </a:solidFill>
                <a:latin typeface="Arial"/>
              </a:rPr>
              <a:t>- </a:t>
            </a:r>
            <a:r>
              <a:rPr b="0" lang="en-US" sz="4400" spc="-1" strike="noStrike">
                <a:solidFill>
                  <a:srgbClr val="99ff99"/>
                </a:solidFill>
                <a:latin typeface="Arial"/>
              </a:rPr>
              <a:t>Splenic arte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passes transversely to the left behind stoma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ong upper border of pancreas. -  It has a tortuous cou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’s accompanied by splenic vei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passes In front of left suprarenal gland and left kidney where it passes between two layers of lienorenal ligament to reach the hilum of sple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4" descr="ant  splen"/>
          <p:cNvPicPr/>
          <p:nvPr/>
        </p:nvPicPr>
        <p:blipFill>
          <a:blip r:embed="rId1"/>
          <a:stretch/>
        </p:blipFill>
        <p:spPr>
          <a:xfrm>
            <a:off x="1476360" y="3645000"/>
            <a:ext cx="612000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ranches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367344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1-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ancreatic branches: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s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ply pancre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2-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hort gastric arter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to upper part of greater curvature of the stoma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3-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Left gastroepiploic artery: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passes between two layers of greater omentum along the greater curvature of stomach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4" descr="branches splen"/>
          <p:cNvPicPr/>
          <p:nvPr/>
        </p:nvPicPr>
        <p:blipFill>
          <a:blip r:embed="rId1"/>
          <a:stretch/>
        </p:blipFill>
        <p:spPr>
          <a:xfrm>
            <a:off x="3995640" y="1557360"/>
            <a:ext cx="4897440" cy="501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is the shortest, widest and most fixed part of the small intestin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Position and Shap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ed to the posterior abdominal wall (retroperitoneal), occupies the epigastric and umbilical reg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llows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haped course around the head of the pancre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ds from the pylorus to the duodeno-jejunal flex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826920" y="3213000"/>
            <a:ext cx="763272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Arial"/>
              </a:rPr>
              <a:t>Termination</a:t>
            </a:r>
            <a:r>
              <a:rPr b="0" lang="en-US" sz="4400" spc="-1" strike="noStrike">
                <a:solidFill>
                  <a:srgbClr val="99ff99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terminates by dividing into 5 or 6 splenic arteries which enter the hilum of spleen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4" descr="termi    splen"/>
          <p:cNvPicPr/>
          <p:nvPr/>
        </p:nvPicPr>
        <p:blipFill>
          <a:blip r:embed="rId1"/>
          <a:stretch/>
        </p:blipFill>
        <p:spPr>
          <a:xfrm>
            <a:off x="3276720" y="2565360"/>
            <a:ext cx="482436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Title 1" descr=""/>
          <p:cNvPicPr/>
          <p:nvPr/>
        </p:nvPicPr>
        <p:blipFill>
          <a:blip r:embed="rId1"/>
          <a:stretch/>
        </p:blipFill>
        <p:spPr>
          <a:xfrm>
            <a:off x="133200" y="1603440"/>
            <a:ext cx="8529840" cy="27558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2"/>
          <p:cNvSpPr/>
          <p:nvPr/>
        </p:nvSpPr>
        <p:spPr>
          <a:xfrm>
            <a:off x="285840" y="4429080"/>
            <a:ext cx="807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rush Script MT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Brush Script MT"/>
              </a:rPr>
              <a:t>Prof.: Dr. Shawky Tay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920" y="188640"/>
            <a:ext cx="8208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rts of the duodenu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. First par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 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hes long, its 1st inch is mobile as it is covered by peritoneum ant. and pos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begi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 the pylorus, 1/2 an inch to the right of the median plane at the level of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1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transpyloric plan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2880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Relations of 1</a:t>
            </a:r>
            <a:r>
              <a:rPr b="1" lang="en-US" sz="3200" spc="-1" strike="noStrike" baseline="30000">
                <a:solidFill>
                  <a:srgbClr val="ff33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par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nteriorl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quadrate lobe of the liver and gallblad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osteriorl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- Neck of the pancrea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Portal vei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bile du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4" descr="Blood Supply of duodenum"/>
          <p:cNvPicPr/>
          <p:nvPr/>
        </p:nvPicPr>
        <p:blipFill>
          <a:blip r:embed="rId1"/>
          <a:stretch/>
        </p:blipFill>
        <p:spPr>
          <a:xfrm>
            <a:off x="3276720" y="1268280"/>
            <a:ext cx="5688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feriorl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ad of pancre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periorly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lated to epiploic foram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2" descr="C:\Documents and Settings\Main\Desktop\liver\liver-gallbladder01.jpg"/>
          <p:cNvPicPr/>
          <p:nvPr/>
        </p:nvPicPr>
        <p:blipFill>
          <a:blip r:embed="rId1"/>
          <a:stretch/>
        </p:blipFill>
        <p:spPr>
          <a:xfrm>
            <a:off x="1547640" y="1844640"/>
            <a:ext cx="60487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2. Second part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3 inches long and descends vertically from the level of L1 to L3. Covered by peritoneum an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nteri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ight lobe of the liver, gall bladder, transverse colon and coils of jejun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osteri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hilum of the right kidn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eral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epatic flexure of the large intest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edial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d of pancreas, bile duct and pancreatico –duodenal arter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971640" y="3284640"/>
            <a:ext cx="7200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78920" y="260280"/>
            <a:ext cx="403236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. Third part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inch long, lies horizontally opposite to the level of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L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nterior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erior mesenteric vessels and coils of small intest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sterior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related to the following structures from the right to the left side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ght ureter, right psoas major, right. gonadal vessels, IVC, aorta and inferior mesenteric arte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perior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ad of pancre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ferior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ils of small intest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4" descr="Blood Supply of duodenum"/>
          <p:cNvPicPr/>
          <p:nvPr/>
        </p:nvPicPr>
        <p:blipFill>
          <a:blip r:embed="rId1"/>
          <a:stretch/>
        </p:blipFill>
        <p:spPr>
          <a:xfrm>
            <a:off x="3924360" y="1268280"/>
            <a:ext cx="5040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964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4. Fourth part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It is one inch long. It ascends from the level of L3 to L2 one inch to the left of median plane at the dudeno-jejunal flex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826920" y="3213000"/>
            <a:ext cx="763272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elations of the 4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part of the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uodenum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Anterio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verse colon and transverse mesocol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813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09:26:08Z</dcterms:created>
  <dc:creator>Prof. Dr. Shawky</dc:creator>
  <dc:description/>
  <dc:language>en-US</dc:language>
  <cp:lastModifiedBy>Safa Osman</cp:lastModifiedBy>
  <dcterms:modified xsi:type="dcterms:W3CDTF">2016-02-22T12:50:04Z</dcterms:modified>
  <cp:revision>10</cp:revision>
  <dc:subject/>
  <dc:title>Duodenum</dc:title>
</cp:coreProperties>
</file>